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611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3A6D-4A0E-4D0A-B6CB-A67050810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178A-2C86-4033-9E4E-A0AE09384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4CC6-9E0B-489C-91A8-15100D757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6F6F-16C7-4E83-9CED-89E937EA7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9354-5CCF-44F7-B6B1-4FDF1BC6F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41EB-ABB5-4047-83CB-D61887AD9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3525-BA13-4486-95FF-7FEB68EC4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FBD5-A942-46FE-905A-6D49DEDCD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6154-967F-40B2-8083-09A49EF94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C7D1-DBBD-4EE8-A753-01441350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42B5-1020-458F-BA26-ABFE7EBF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82CA-4D2A-4BCE-854E-830B64B3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4E9ED-6D0F-4199-B842-8C1579136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7252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99"/>
                </a:solidFill>
                <a:latin typeface="Times New Roman"/>
              </a:rPr>
              <a:t>Управління економіки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uk-UA" sz="2000" spc="-1" strike="noStrike">
                <a:solidFill>
                  <a:srgbClr val="000099"/>
                </a:solidFill>
                <a:latin typeface="Times New Roman"/>
              </a:rPr>
              <a:t>Луцької міської ра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7138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99"/>
                </a:solidFill>
                <a:latin typeface="Arial"/>
              </a:rPr>
              <a:t>Виконання Прогр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000" spc="-1" strike="noStrike">
                <a:solidFill>
                  <a:srgbClr val="000099"/>
                </a:solidFill>
                <a:latin typeface="Arial"/>
              </a:rPr>
              <a:t>соціально-економічного розвитку м.Луцька                        </a:t>
            </a:r>
            <a:br>
              <a:rPr sz="3000"/>
            </a:br>
            <a:r>
              <a:rPr b="1" i="1" lang="uk-UA" sz="3000" spc="-1" strike="noStrike">
                <a:solidFill>
                  <a:srgbClr val="000099"/>
                </a:solidFill>
                <a:latin typeface="Arial"/>
              </a:rPr>
              <a:t>у 2010 році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24000" y="6237360"/>
            <a:ext cx="5040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Луцьк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71640" y="3284640"/>
            <a:ext cx="7289640" cy="28191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172360" y="260280"/>
            <a:ext cx="70812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Рівень зареєстрованого безробіття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95280" y="1413000"/>
          <a:ext cx="8137440" cy="496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413000"/>
                    <a:ext cx="8137440" cy="49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Моніторинг  середньої заробітної пл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57200" y="1600200"/>
          <a:ext cx="4037040" cy="4523040"/>
        </p:xfrm>
        <a:graphic>
          <a:graphicData uri="http://schemas.openxmlformats.org/drawingml/2006/table">
            <a:tbl>
              <a:tblPr/>
              <a:tblGrid>
                <a:gridCol w="4037040"/>
              </a:tblGrid>
              <a:tr h="452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900000" y="1700280"/>
          <a:ext cx="7632720" cy="431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700280"/>
                    <a:ext cx="763272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Рівень сплати населенням житлово-комунальних послуг</a:t>
            </a:r>
            <a:br>
              <a:rPr sz="2400"/>
            </a:br>
            <a:r>
              <a:rPr b="0" lang="uk-UA" sz="2400" spc="-1" strike="noStrike">
                <a:solidFill>
                  <a:srgbClr val="000099"/>
                </a:solidFill>
                <a:latin typeface="Times New Roman"/>
              </a:rPr>
              <a:t> (за відповідний місяць, у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50920" y="1844640"/>
          <a:ext cx="5832360" cy="373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844640"/>
                    <a:ext cx="5832360" cy="37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6156360" y="1258560"/>
            <a:ext cx="28083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99"/>
                </a:solidFill>
                <a:latin typeface="Times New Roman"/>
              </a:rPr>
              <a:t>У січні–листопаді населення міста сплатило за житлово-комунальні послуги, враховуючи погашення боргів попередніх років, 192,2 млн.грн., або на 15,3% більше, ніж у січні–листопаді 2009р. Рівень сплати становив 95,5% до нарахованої суми (у січні–листопаді 2009р. – 94,7%), що майже на рівні   середнь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99"/>
                </a:solidFill>
                <a:latin typeface="Times New Roman"/>
              </a:rPr>
              <a:t>обласного показ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983600" y="429840"/>
            <a:ext cx="60922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Заборгованість з виплати заробітної пл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50920" y="1268280"/>
          <a:ext cx="5545080" cy="45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268280"/>
                    <a:ext cx="554508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1712880" y="2355480"/>
            <a:ext cx="77364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uk-UA" sz="1100" spc="-1" strike="noStrike">
                <a:solidFill>
                  <a:srgbClr val="000000"/>
                </a:solidFill>
                <a:latin typeface="Arial"/>
                <a:ea typeface="Arial"/>
              </a:rPr>
              <a:t>(тис.грн.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40360" y="1142640"/>
            <a:ext cx="2952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99"/>
                </a:solidFill>
                <a:latin typeface="Times New Roman"/>
              </a:rPr>
              <a:t>З початку року сума боргу зменшилась і на 01.01.11 становила 9014,2 тис. грн., із якої 51,9%  (4675,9 тис.грн.) припадає на економічно активні підприємства, решта – на підприємства, щодо яких реалізовано процедури відновлення платоспроможності боржника або визнання його банкрутом та економічно неактивні підприєм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Структура заборгованості із виплати заробітної пл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826920" y="1557360"/>
          <a:ext cx="749016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557360"/>
                    <a:ext cx="74901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Фінансування державних та цільових програм з бюджету міста Луцька за 2010 рі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95280" y="765000"/>
          <a:ext cx="8569440" cy="5407200"/>
        </p:xfrm>
        <a:graphic>
          <a:graphicData uri="http://schemas.openxmlformats.org/drawingml/2006/table">
            <a:tbl>
              <a:tblPr/>
              <a:tblGrid>
                <a:gridCol w="360360"/>
                <a:gridCol w="3816360"/>
                <a:gridCol w="865080"/>
                <a:gridCol w="863640"/>
                <a:gridCol w="935280"/>
                <a:gridCol w="792000"/>
                <a:gridCol w="936720"/>
              </a:tblGrid>
              <a:tr h="1006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зва галуз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отреб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 2010р.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тис.гр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ередба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чено 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10р.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тис.гр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рофінансова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10р.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тис.гр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% ві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отреб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%  ві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ередба-чен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оціальний захист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68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182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837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8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4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світа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7445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2147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1774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7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6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хорона здоров’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514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9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олодіжна політика та спор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456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90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58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3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7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ультура та збереження історичної спадщин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791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61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61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5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9,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ЖК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6089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961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9107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5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1,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істобудуванн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5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19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6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3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9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Екологі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10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2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12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8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7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дзвичайні ситуації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77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3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2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7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Розвиток підприємництв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40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Енергозбереженн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68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64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2,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онсультативно-інформаційне забезпеченн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40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7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Інформаційна політик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203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08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78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6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Інш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222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45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28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3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Разом за програма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29149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900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637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8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3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260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Виконання державних та цільових програм з бюджету міста Луцька за 2010 рі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1557360"/>
          <a:ext cx="9144000" cy="449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57360"/>
                    <a:ext cx="91440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85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99"/>
                </a:solidFill>
                <a:latin typeface="Times New Roman"/>
              </a:rPr>
              <a:t>Основні тенденції економічного та соціального розвитку міста Луцька</a:t>
            </a:r>
            <a:br>
              <a:rPr sz="2000"/>
            </a:br>
            <a:r>
              <a:rPr b="1" i="1" lang="uk-UA" sz="2000" spc="-1" strike="noStrike">
                <a:solidFill>
                  <a:srgbClr val="000099"/>
                </a:solidFill>
                <a:latin typeface="Times New Roman"/>
              </a:rPr>
              <a:t>з</a:t>
            </a:r>
            <a:r>
              <a:rPr b="1" i="1" lang="uk-UA" sz="1600" spc="-1" strike="noStrike">
                <a:solidFill>
                  <a:srgbClr val="000099"/>
                </a:solidFill>
                <a:latin typeface="Times New Roman"/>
              </a:rPr>
              <a:t>а 2010 рік у порівнянні з 2009 роком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560" y="692280"/>
            <a:ext cx="871380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00" spc="-1" strike="noStrike">
                <a:solidFill>
                  <a:srgbClr val="000099"/>
                </a:solidFill>
                <a:latin typeface="Arial"/>
              </a:rPr>
              <a:t>                 </a:t>
            </a:r>
            <a:r>
              <a:rPr b="1" i="1" lang="uk-UA" sz="1100" spc="-1" strike="noStrike">
                <a:solidFill>
                  <a:srgbClr val="000099"/>
                </a:solidFill>
                <a:latin typeface="Arial"/>
              </a:rPr>
              <a:t>Позити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Підприємствами міста реалізовано промислової продукції на 1,9 млрд.грн., що становить понад чверть загальнообласних обсягів. Виконання річного завдання, встановленого Програмою на 2010 рік забезпечено на 151,0%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В розрахунку на одного жителя міста реалізовано промислової продукції на 9,2 тис.грн., забезпечено виконання річного завдання на 151,2%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Виконано будівельних робіт на 243,5 млн.грн., що</a:t>
            </a:r>
            <a:r>
              <a:rPr b="0" lang="uk-UA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100" spc="-1" strike="noStrike">
                <a:solidFill>
                  <a:srgbClr val="000099"/>
                </a:solidFill>
                <a:latin typeface="Symbol"/>
                <a:ea typeface="Symbol"/>
              </a:rPr>
              <a:t>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 на 3,4% у порівняних цінах по відношенню до  2009 рок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Введено в експлуатацію житла загальною площею 45,2 тис. кв. м, що </a:t>
            </a:r>
            <a:r>
              <a:rPr b="0" lang="uk-UA" sz="1100" spc="-1" strike="noStrike">
                <a:solidFill>
                  <a:srgbClr val="000099"/>
                </a:solidFill>
                <a:latin typeface="Symbol"/>
                <a:ea typeface="Symbol"/>
              </a:rPr>
              <a:t>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 на 3,9% ніж за 2009 рік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Фінансовий результат від звичайної діяльності до оподаткування за 2010 рік становив 825,2 млн.грн. прибутку проти 373,7 млн.грн. збитків 2009 рок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Частка прибуткових суб’єктів господарювання склала 55,2% (у 2009р. – 54,8%)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Досягнуто позитивного сальдо зовнішньої торгівлі товарами 6,7 млн.дол.США (за одинадцять місяців 2009р. було від’ємним – 17 млн.дол.США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Створено за січень-</a:t>
            </a: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грудень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 2010 року 5502 нових робочих місць, що становить 100% до завдання Програми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Працевлаштовано 6,5 тис.осіб що</a:t>
            </a:r>
            <a:r>
              <a:rPr b="0" lang="uk-UA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100" spc="-1" strike="noStrike">
                <a:solidFill>
                  <a:srgbClr val="000099"/>
                </a:solidFill>
                <a:latin typeface="Symbol"/>
                <a:ea typeface="Symbol"/>
              </a:rPr>
              <a:t>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на 26,2% в порівнянні з 2009 роком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Рівень зареєстрованого безробіття на початок 2011року становив 2% населення у працездатному віці,що </a:t>
            </a:r>
            <a:r>
              <a:rPr b="0" lang="ru-RU" sz="1100" spc="-1" strike="noStrike">
                <a:solidFill>
                  <a:srgbClr val="000099"/>
                </a:solidFill>
                <a:latin typeface="Symbol"/>
                <a:ea typeface="Symbol"/>
              </a:rPr>
              <a:t></a:t>
            </a: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 на 0,1 ві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дсоткового показника 2009 року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Середньомісячна заробітна плата за січень-грудень порівняно з відповідним періодом 2009 року </a:t>
            </a:r>
            <a:r>
              <a:rPr b="0" lang="uk-UA" sz="1100" spc="-1" strike="noStrike">
                <a:solidFill>
                  <a:srgbClr val="000099"/>
                </a:solidFill>
                <a:latin typeface="Symbol"/>
                <a:ea typeface="Symbol"/>
              </a:rPr>
              <a:t>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 на 17,09% і становила 1850 грн. (по області - 1692 грн., по Україні – 2239 грн.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Заборгованість з виплати заробітної плати на економічно активних підприємствах в порівнянні з початком року </a:t>
            </a:r>
            <a:r>
              <a:rPr b="0" lang="uk-UA" sz="1100" spc="-1" strike="noStrike">
                <a:solidFill>
                  <a:srgbClr val="000099"/>
                </a:solidFill>
                <a:latin typeface="Symbol"/>
                <a:ea typeface="Symbol"/>
              </a:rPr>
              <a:t>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 на 38,1% і на 01.01.2011 р. становила 4,7млн. гривень.</a:t>
            </a:r>
            <a:r>
              <a:rPr b="0" lang="uk-UA" sz="11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За 11 місяців 2010 р. населення міста сплатило за житлово-комунальні послуги 192,2 млн.грн., що </a:t>
            </a:r>
            <a:r>
              <a:rPr b="0" lang="uk-UA" sz="1100" spc="-1" strike="noStrike">
                <a:solidFill>
                  <a:srgbClr val="000099"/>
                </a:solidFill>
                <a:latin typeface="Symbol"/>
                <a:ea typeface="Symbol"/>
              </a:rPr>
              <a:t></a:t>
            </a: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 на 15,3% ніж у січні–листопаді 2009р. Рівень сплати становив 95,5% до нарахованої суми (у січні–листопаді 2009р. – 94,7%), що на рівні середньообласного показник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Оборот роздрібної торгівлі становить </a:t>
            </a:r>
            <a:r>
              <a:rPr b="0" lang="en-US" sz="1100" spc="-1" strike="noStrike">
                <a:solidFill>
                  <a:srgbClr val="000099"/>
                </a:solidFill>
                <a:latin typeface="Arial"/>
              </a:rPr>
              <a:t>5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,</a:t>
            </a:r>
            <a:r>
              <a:rPr b="0" lang="en-US" sz="11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 млрд. грн., що </a:t>
            </a:r>
            <a:r>
              <a:rPr b="0" lang="uk-UA" sz="1100" spc="-1" strike="noStrike">
                <a:solidFill>
                  <a:srgbClr val="000099"/>
                </a:solidFill>
                <a:latin typeface="Symbol"/>
                <a:ea typeface="Symbol"/>
              </a:rPr>
              <a:t>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 на 7,3 % у порівняних цінах по відношенню до  2009 рок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100" spc="-1" strike="noStrike">
                <a:solidFill>
                  <a:srgbClr val="000099"/>
                </a:solidFill>
                <a:latin typeface="Arial"/>
              </a:rPr>
              <a:t>Негати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Індекс споживчих цін в області за рік склав – 108,1% (в Україні – 109,1%),</a:t>
            </a:r>
            <a:r>
              <a:rPr b="0" lang="uk-UA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Бюджет міста по доходах виконано на 94,9%, недоотримано доходів 30,8 млн.грн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Податковий борг до бюджету міста на 1 січня 2011 року становив 8,4 млн. грн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Загальний борг бюджету міста на 1 січня 2011 року становив 15,3 млн. грн., з них з бюджету розвитку 6,9 млн.грн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За результатами господарської діяльності комунальні підприємства понесли збитки 37,3 млн.грн., проти 28,8 млн.грн. збитків 2009 рок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Кредиторська заборгованість комунальних підприємств становить 137,1 млн.грн., що </a:t>
            </a:r>
            <a:r>
              <a:rPr b="0" lang="uk-UA" sz="1100" spc="-1" strike="noStrike">
                <a:solidFill>
                  <a:srgbClr val="000099"/>
                </a:solidFill>
                <a:latin typeface="Symbol"/>
                <a:ea typeface="Symbol"/>
              </a:rPr>
              <a:t>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 на 40% з початку рок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Дебіторська заборгованість комунальних підприємств становить 64,6 млн.грн., що </a:t>
            </a:r>
            <a:r>
              <a:rPr b="0" lang="uk-UA" sz="1100" spc="-1" strike="noStrike">
                <a:solidFill>
                  <a:srgbClr val="000099"/>
                </a:solidFill>
                <a:latin typeface="Symbol"/>
                <a:ea typeface="Symbol"/>
              </a:rPr>
              <a:t>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  на 52,7% з початку рок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Заборгованість з виплати заробітної плати на комунальних підприємствах 2,2 млн.грн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Борги населення за житловокомунальні послуги на 1 грудня 2010р. 41,1 млн.грн., що </a:t>
            </a:r>
            <a:r>
              <a:rPr b="0" lang="uk-UA" sz="1100" spc="-1" strike="noStrike">
                <a:solidFill>
                  <a:srgbClr val="000099"/>
                </a:solidFill>
                <a:latin typeface="Symbol"/>
                <a:ea typeface="Symbol"/>
              </a:rPr>
              <a:t>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 на 24,7%</a:t>
            </a:r>
            <a:r>
              <a:rPr b="0" lang="uk-UA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по відношенню до  1 грудня 2009 року.</a:t>
            </a:r>
            <a:r>
              <a:rPr b="0" lang="uk-UA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2124000" y="6668280"/>
            <a:ext cx="50403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042920" y="154080"/>
            <a:ext cx="78501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Обсяг реалізованої промислової продукці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(товарів, послу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99"/>
                </a:solidFill>
                <a:latin typeface="Times New Roman"/>
              </a:rPr>
              <a:t>(за відповідний місяць, млн.грн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324000" y="1773360"/>
          <a:ext cx="5616360" cy="40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773360"/>
                    <a:ext cx="5616360" cy="40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6012000" y="1286280"/>
            <a:ext cx="2952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У</a:t>
            </a:r>
            <a:r>
              <a:rPr b="0" lang="uk-UA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2010 році підприємствами міста реалізовано промислової продукції на 1,9 млрд.грн., що становить понад чверть загальнообласних обсягів. Виконання річного завдання, встановленого Програмою на 2010 рік забезпечено на 151,0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В розрахунку на одного жителя міста реалізовано промислової продукції на 9,2 тис.грн., забезпечено виконання річного завдання, встановленого Програмою на 2010 рік на 151,2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Інвестиці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539640" y="1052640"/>
          <a:ext cx="5472360" cy="532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052640"/>
                    <a:ext cx="5472360" cy="53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6012000" y="1065600"/>
            <a:ext cx="2881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Загальний обсяг прямих іноземних інвестицій, внесених в економіку міста за весь період інвестування, станом на 01.01.2011 становив 210,2 млн.дол.США,  що на 7,8% більше обсягів на початок року. </a:t>
            </a: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Обсяг  інвестицій в розрахунку на одного жителя становив 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 10</a:t>
            </a: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09,8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 дол.</a:t>
            </a: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США, що 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 в </a:t>
            </a: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3 рази вище загальнообласного показника.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Виконання річного завдання, встановленого Програмою забезпечено на 85,0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268360" y="333000"/>
            <a:ext cx="59040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Зміни обсягів будівельних робі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99"/>
                </a:solidFill>
                <a:latin typeface="Times New Roman"/>
              </a:rPr>
              <a:t>(наростаючим підсумком у % до відповідного    періоду попереднього рок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68360" y="1989000"/>
          <a:ext cx="5976720" cy="35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989000"/>
                    <a:ext cx="5976720" cy="35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6588000" y="1700280"/>
            <a:ext cx="2376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99"/>
                </a:solidFill>
                <a:latin typeface="Times New Roman"/>
              </a:rPr>
              <a:t>За 2010 рік підприємства виконали 61,1% загальнообласних обсягів будівельних робіт на суму 243,5 млн.грн., що в порівнянних цінах становить 103,4% обсягів 2009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331640" y="-360"/>
            <a:ext cx="72104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Зміни обсягів вантажних перевезень                    автотранспортом підприєм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uk-UA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наростаючим підсумком у % до відповідного періоду попереднього рок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539640" y="1916280"/>
          <a:ext cx="5616720" cy="439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916280"/>
                    <a:ext cx="5616720" cy="43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6084720" y="1266480"/>
            <a:ext cx="2880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99"/>
                </a:solidFill>
                <a:latin typeface="Times New Roman"/>
              </a:rPr>
              <a:t>За 2010 рік автотранспортом підприємств перевезено 1,5 млн.т вантажів, що на 1,5% менше, ніж у попередньому році. Кожне друге підприємство наростило обсяги порівняно з 2009р., розпочали діяльність 5 нових підприємств, а 4 (9,1% із загальної кількості) не працювали у минулому роц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Транспортні перевезення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4525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684360" y="1052640"/>
          <a:ext cx="5327640" cy="56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052640"/>
                    <a:ext cx="5327640" cy="56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 txBox="1"/>
          <p:nvPr/>
        </p:nvSpPr>
        <p:spPr>
          <a:xfrm>
            <a:off x="6156000" y="836640"/>
            <a:ext cx="280836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99"/>
                </a:solidFill>
                <a:latin typeface="Times New Roman"/>
              </a:rPr>
              <a:t>Автотранспортом підприємств міста </a:t>
            </a:r>
            <a:r>
              <a:rPr b="0" lang="uk-UA" sz="1600" spc="-1" strike="noStrike">
                <a:solidFill>
                  <a:srgbClr val="000099"/>
                </a:solidFill>
                <a:latin typeface="Times New Roman"/>
              </a:rPr>
              <a:t>здійснено 61,2% пасажирських перевезень області, що відповідає 10,9 млн. осіб і на 2,3% більше, ніж у 2009р. Близько 73% підприємств зуміли покращити свої показники в порівнянні з попереднім рок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99"/>
                </a:solidFill>
                <a:latin typeface="Times New Roman"/>
              </a:rPr>
              <a:t>Міським електричним транспортом</a:t>
            </a:r>
            <a:r>
              <a:rPr b="0" lang="uk-UA" sz="1600" spc="-1" strike="noStrike">
                <a:solidFill>
                  <a:srgbClr val="000099"/>
                </a:solidFill>
                <a:latin typeface="Times New Roman"/>
              </a:rPr>
              <a:t> користувалось 19,5 млн. громадян, з них 12,2 млн. осіб мали право на безкоштовний проїзд. В порівнянні з 2009р. обсяги перевезень зменшились майже на 11%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11280" y="189000"/>
            <a:ext cx="8136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Географічна структура експорту товар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Times New Roman"/>
              </a:rPr>
              <a:t>                       </a:t>
            </a:r>
            <a:r>
              <a:rPr b="0" lang="uk-UA" sz="1800" spc="-1" strike="noStrike">
                <a:solidFill>
                  <a:srgbClr val="000099"/>
                </a:solidFill>
                <a:latin typeface="Times New Roman"/>
              </a:rPr>
              <a:t>(у % до загального обсягу експорт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99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56360" y="983160"/>
            <a:ext cx="2736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Найбільше товарів експортовано до Російської Федерації – 70,2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Експортовано товарів на 166,8 млн.дол.США. Країни СНД – основні ринки збуту товарів. Експорт в ці країни становив 91,6 млн.дол. (54,9% загального обсягу), що в 1,7 раза більше, ніж у січні–листопаді 2009р. В країни Європи експортовано товарів на 66,3 млн.дол. (39,8%), на 53,1% більше, решта – в країни Азії, Америки і Африки</a:t>
            </a:r>
            <a:r>
              <a:rPr b="1" lang="uk-UA" sz="16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-252360" y="1916280"/>
          <a:ext cx="6732360" cy="320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52360" y="1916280"/>
                    <a:ext cx="6732360" cy="32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3628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Географічна структура імпорту товар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99"/>
                </a:solidFill>
                <a:latin typeface="Times New Roman"/>
              </a:rPr>
              <a:t>                          </a:t>
            </a:r>
            <a:r>
              <a:rPr b="0" lang="uk-UA" sz="2000" spc="-1" strike="noStrike">
                <a:solidFill>
                  <a:srgbClr val="000099"/>
                </a:solidFill>
                <a:latin typeface="Times New Roman"/>
              </a:rPr>
              <a:t>(у % до загального обсягу імпорт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5640" y="493488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84720" y="1413000"/>
            <a:ext cx="2880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За січень-листопад імпортовано товарів на 160,1 млн.дол.США. Імпортних товарів з країн Європи надійшло на суму 119 млн.дол. США, (74,3% загальноміського обсягу), що на 19,3% більше, ніж у 2009р., з країн СНД – на 33,5 млн.дол.США, (20,9%), на 55,2% більше, з країн Азії – на 6,4 млн.дол.США, (4%), на 54,5% більше, решта – з країн Америки, Африки, Австралії і Океанії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-757080" y="2133720"/>
          <a:ext cx="7777080" cy="318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57080" y="2133720"/>
                    <a:ext cx="7777080" cy="31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042920" y="142200"/>
            <a:ext cx="77770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uk-U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Зміни обсягів обороту роздрібної торгівл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50920" y="1197000"/>
          <a:ext cx="633708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97000"/>
                    <a:ext cx="633708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6194520" y="249624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588000" y="1039680"/>
            <a:ext cx="237672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Оборот роздрібної торгівлі  (з урахуванням </a:t>
            </a:r>
            <a:r>
              <a:rPr b="1" lang="uk-UA" sz="2000" spc="-1" strike="noStrike">
                <a:solidFill>
                  <a:srgbClr val="000099"/>
                </a:solidFill>
                <a:latin typeface="Times New Roman"/>
              </a:rPr>
              <a:t>розрахункових</a:t>
            </a: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 даних щодо обсягів продажу товарів на ринках та фізичними особами–підприємцями) за 2010р. становив 5,2 млрд.грн., що на 7,3% більше обсягу 2009р. і складає майже 52% загальнообласного показн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3T08:22:04Z</dcterms:created>
  <dc:creator>SamLab.ws</dc:creator>
  <dc:description/>
  <dc:language>en-US</dc:language>
  <cp:lastModifiedBy>Яковлєв Тарас</cp:lastModifiedBy>
  <dcterms:modified xsi:type="dcterms:W3CDTF">2011-02-23T06:54:13Z</dcterms:modified>
  <cp:revision>112</cp:revision>
  <dc:subject/>
  <dc:title>Виконавчий комітет Луцької міської ради</dc:title>
</cp:coreProperties>
</file>